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48CB-0535-4F6C-BE81-F1C1A42A8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D770-E0BF-4F6F-96B0-39579C1AC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21AC-F50E-415C-8E22-24F5AB668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CF25-48DA-4124-A179-ED47A692C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E729-7F3D-47AF-A7CB-91C541C14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FF37-6EDB-41D0-8892-B92A9785A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2059-8D41-4691-99DE-0D7669A39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1A61-978B-43D4-8C39-FFCF6BEBA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E28B-12BF-42F8-96A2-D33DEE3F9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79D9-00EC-4D28-AAC3-BED963F53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B126-2121-42FB-9479-4EA7C4F91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1969-A968-4700-BC86-86BA0E6FE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EEBBF-DB79-492F-9C61-30BC263292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-100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chnical Aspects Test (3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10920" y="1341360"/>
            <a:ext cx="80643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80880" indent="-3808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Name the main 5 components of mise-en-scene (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hat is low key lighting (1)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efine the following shots (8)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igh Ang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ac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hot-reverse-sh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stablishing sh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hat is cross cutting (1)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hat is match on action (1)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hat is an eyeline match (1)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hat editing technique might 4 and 5 be a part of? Define it (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Name and define 3 editing transitions (3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Name and define 4 editing effects (4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efine the following sound key terms (4)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ymphon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hyth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son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ynchron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he colour red might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ymbolise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danger”. Give 2 words that you could use instead of symbolise (2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ossible AS Exam 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24000" y="2071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swer the question below, with detailed references to specific examples from the extract on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scuss the ways in which the extract constructs the representation of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gende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using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mera shots, angles, movement and compos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ise en sce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50920" y="1555920"/>
            <a:ext cx="8642160" cy="4752720"/>
          </a:xfrm>
          <a:prstGeom prst="rect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89640" y="2181240"/>
            <a:ext cx="171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nno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271160" y="4005360"/>
            <a:ext cx="197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repres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978880" y="3213000"/>
            <a:ext cx="202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ymboli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02440" y="4797360"/>
            <a:ext cx="161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ubve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33560" y="198900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tereo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07080" y="2852640"/>
            <a:ext cx="184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rche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617880" y="4797360"/>
            <a:ext cx="187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tock 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4520" y="5516640"/>
            <a:ext cx="19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nstr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39680" y="1341360"/>
            <a:ext cx="169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ud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35760" y="404640"/>
            <a:ext cx="238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ost-femin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76400" y="6165720"/>
            <a:ext cx="235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ost-mode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129040" y="6165720"/>
            <a:ext cx="196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ntagon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279840" y="476280"/>
            <a:ext cx="212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rotagon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14560" y="3213000"/>
            <a:ext cx="159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mpl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738520" y="1484280"/>
            <a:ext cx="239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ulti-face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959640" y="4076640"/>
            <a:ext cx="404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atriarchal/matriarch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500280" y="115920"/>
            <a:ext cx="238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tatus/p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4040" y="4653000"/>
            <a:ext cx="15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ortr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343320" y="2349360"/>
            <a:ext cx="21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ubserv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725920" y="5589720"/>
            <a:ext cx="441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assionate/dispassion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134040" y="1197000"/>
            <a:ext cx="142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066040" y="981000"/>
            <a:ext cx="11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971680" y="2637000"/>
            <a:ext cx="220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tmosp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028240" y="3429000"/>
            <a:ext cx="21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ppropri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61400" y="2708280"/>
            <a:ext cx="125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ybr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810960" y="765000"/>
            <a:ext cx="118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yr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24920" y="6078600"/>
            <a:ext cx="190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anti) h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317480" y="3573360"/>
            <a:ext cx="186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reinfo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roup 1: Mise-en-sce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roup 2: Cinematogra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roup 3: S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roup 4: Ed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rite about the first 45 seconds in chronological o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2T13:53:05Z</dcterms:created>
  <dc:creator>maninder singh</dc:creator>
  <dc:description/>
  <dc:language>en-US</dc:language>
  <cp:lastModifiedBy>maninder singh</cp:lastModifiedBy>
  <dcterms:modified xsi:type="dcterms:W3CDTF">2010-12-02T14:06:17Z</dcterms:modified>
  <cp:revision>2</cp:revision>
  <dc:subject/>
  <dc:title>Technical Aspects Test</dc:title>
</cp:coreProperties>
</file>